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800000"/>
                </a:solidFill>
                <a:latin typeface="Gill Sans"/>
              </a:rPr>
              <a:t>Magnesium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ill Sans"/>
              </a:rPr>
              <a:t>Mg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269720" y="-151128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0000"/>
                </a:solidFill>
                <a:latin typeface="Gill Sans"/>
              </a:rPr>
              <a:t>Atomic number and mass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269720" y="201888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e atomic number of magnesium is 12.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e atomic mass is 24.3050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269720" y="-184140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8080"/>
                </a:solidFill>
                <a:latin typeface="Gill Sans"/>
              </a:rPr>
              <a:t>Isotopes of magnesium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2"/>
          <a:stretch/>
        </p:blipFill>
        <p:spPr>
          <a:xfrm>
            <a:off x="1193760" y="1739880"/>
            <a:ext cx="10604520" cy="69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269720" y="-215892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8040"/>
                </a:solidFill>
                <a:latin typeface="Gill Sans"/>
              </a:rPr>
              <a:t>Ions of magnesium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269720" y="1663200"/>
            <a:ext cx="10464840" cy="642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Magnesium has twelve or ten electrons and its only ion is Mg+2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269720" y="-205740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Pictures of magnesium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2"/>
          <a:stretch/>
        </p:blipFill>
        <p:spPr>
          <a:xfrm>
            <a:off x="627120" y="1638360"/>
            <a:ext cx="4292640" cy="267012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3"/>
          <a:stretch/>
        </p:blipFill>
        <p:spPr>
          <a:xfrm>
            <a:off x="7835760" y="1714680"/>
            <a:ext cx="2324160" cy="250488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4"/>
          <a:stretch/>
        </p:blipFill>
        <p:spPr>
          <a:xfrm>
            <a:off x="3137040" y="5092560"/>
            <a:ext cx="6718320" cy="384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269720" y="-214632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0000"/>
                </a:solidFill>
                <a:latin typeface="Gill Sans"/>
              </a:rPr>
              <a:t>Where magnesium was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269720" y="3543120"/>
            <a:ext cx="104648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Magnesium was discovered in Europe,1808 by Sir Humphry Davy.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8496360" y="4699080"/>
            <a:ext cx="2793960" cy="32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69720" y="-205740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800040"/>
                </a:solidFill>
                <a:latin typeface="Gill Sans"/>
              </a:rPr>
              <a:t>Uses of magnesium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69720" y="2273040"/>
            <a:ext cx="10464840" cy="392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Magnesium is used in fire starters and steel pipes.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2"/>
          <a:stretch/>
        </p:blipFill>
        <p:spPr>
          <a:xfrm>
            <a:off x="4521240" y="3160800"/>
            <a:ext cx="3962520" cy="341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269720" y="-207000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8080"/>
                </a:solidFill>
                <a:latin typeface="Gill Sans"/>
              </a:rPr>
              <a:t>Interesting facts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269720" y="2298600"/>
            <a:ext cx="10464840" cy="51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Magnesium is in most food you eat.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